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19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34.png" ContentType="image/png"/>
  <Override PartName="/ppt/media/image45.jpeg" ContentType="image/jpeg"/>
  <Override PartName="/ppt/media/image46.jpeg" ContentType="image/jpeg"/>
  <Override PartName="/ppt/media/image49.jpeg" ContentType="image/jpeg"/>
  <Override PartName="/ppt/media/image12.png" ContentType="image/png"/>
  <Override PartName="/ppt/media/image20.jpeg" ContentType="image/jpeg"/>
  <Override PartName="/ppt/media/image47.jpeg" ContentType="image/jpeg"/>
  <Override PartName="/ppt/media/image52.jpeg" ContentType="image/jpeg"/>
  <Override PartName="/ppt/media/image48.jpeg" ContentType="image/jpeg"/>
  <Override PartName="/ppt/media/image53.jpeg" ContentType="image/jpeg"/>
  <Override PartName="/ppt/media/image56.jpeg" ContentType="image/jpeg"/>
  <Override PartName="/ppt/media/image36.png" ContentType="image/png"/>
  <Override PartName="/ppt/media/image57.jpeg" ContentType="image/jpeg"/>
  <Override PartName="/ppt/media/image58.jpeg" ContentType="image/jpeg"/>
  <Override PartName="/ppt/media/image59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11.png" ContentType="image/png"/>
  <Override PartName="/ppt/media/image9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  <p:custShowLst>
    <p:custShow name="Custom Show 1" id="0">
      <p:sldLst>
        <p:sld r:id="rId21"/>
      </p:sldLst>
    </p:custShow>
    <p:custShow name="Custom Show 2" id="1">
      <p:sldLst>
        <p:sld r:id="rId15"/>
        <p:sld r:id="rId16"/>
        <p:sld r:id="rId17"/>
        <p:sld r:id="rId18"/>
        <p:sld r:id="rId19"/>
        <p:sld r:id="rId20"/>
        <p:sld r:id="rId21"/>
        <p:sld r:id="rId2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533-3CA4-47B0-A171-C3B9ECA4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6EA-428F-4830-9E8A-08B9A17D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E27-7465-4BAD-B0BB-CD35D9BD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7E01-5A89-4CE9-8C14-A245CD78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C86-DEAA-4070-B9B8-EB903C2B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3E5C-0036-426A-ABB8-CDFBF243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D96D-58C9-4912-BE0F-E50D40DE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844-6BE5-4EB4-A9DA-8C79CA82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C2D-BA91-4EFA-8248-459C5991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1C1F-9678-4253-8A4A-90EDB90B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2DEF-BA53-471D-8604-59B258F3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2A1-DE86-4A7D-9C53-A67D9EA5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02A0-9332-4133-A6FD-9114452BF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hyperlink" Target="http://upload.wikimedia.org/wikipedia/en/d/db/Mercurybyhendrickgoltzius.jpeg" TargetMode="External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193840" y="1108080"/>
            <a:ext cx="512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762120" y="1905120"/>
            <a:ext cx="77724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ootlight MT Light"/>
              </a:rPr>
              <a:t>the Gods and Goddesses</a:t>
            </a:r>
            <a:endParaRPr b="1" lang="en-US" sz="60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of Ancient Greece</a:t>
            </a:r>
            <a:endParaRPr b="1" lang="en-US" sz="3200" spc="-1" strike="noStrike">
              <a:solidFill>
                <a:srgbClr val="000000"/>
              </a:solidFill>
              <a:latin typeface="Footlight MT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874960" y="3733920"/>
            <a:ext cx="34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(Meet the Family)</a:t>
            </a:r>
            <a:endParaRPr b="1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04920" y="2438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ZEUS’ CHILDREN BY HERA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6"/>
          <p:cNvSpPr/>
          <p:nvPr/>
        </p:nvSpPr>
        <p:spPr>
          <a:xfrm>
            <a:off x="4761720" y="304920"/>
            <a:ext cx="379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RES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Mars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4686480" y="1295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od of War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4686480" y="19051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None of the Other Gods Like Him Much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4699080" y="27432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e’s Ruthless, Yet a Cowar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4343400" y="3352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ad NO Temples in Greec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121" name="Picture 21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643200" cy="4419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G9819"/>
          <p:cNvPicPr/>
          <p:nvPr/>
        </p:nvPicPr>
        <p:blipFill>
          <a:blip r:embed="rId2"/>
          <a:srcRect l="15611" t="28914" r="14145" b="14033"/>
          <a:stretch/>
        </p:blipFill>
        <p:spPr>
          <a:xfrm>
            <a:off x="2514600" y="3657600"/>
            <a:ext cx="2206800" cy="281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Picture 9" descr="ares"/>
          <p:cNvPicPr/>
          <p:nvPr/>
        </p:nvPicPr>
        <p:blipFill>
          <a:blip r:embed="rId3"/>
          <a:srcRect l="6786" t="0" r="0" b="0"/>
          <a:stretch/>
        </p:blipFill>
        <p:spPr>
          <a:xfrm>
            <a:off x="339840" y="4191120"/>
            <a:ext cx="1869840" cy="2209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4" name="Picture 11" descr="ares.GIF (7594 bytes)"/>
          <p:cNvPicPr/>
          <p:nvPr/>
        </p:nvPicPr>
        <p:blipFill>
          <a:blip r:embed="rId4"/>
          <a:stretch/>
        </p:blipFill>
        <p:spPr>
          <a:xfrm>
            <a:off x="4583160" y="4343400"/>
            <a:ext cx="151272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Athena_by_tattereddreams"/>
          <p:cNvPicPr/>
          <p:nvPr/>
        </p:nvPicPr>
        <p:blipFill>
          <a:blip r:embed="rId1"/>
          <a:stretch/>
        </p:blipFill>
        <p:spPr>
          <a:xfrm>
            <a:off x="228600" y="152280"/>
            <a:ext cx="3597120" cy="449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thena"/>
          <p:cNvPicPr/>
          <p:nvPr/>
        </p:nvPicPr>
        <p:blipFill>
          <a:blip r:embed="rId2"/>
          <a:stretch/>
        </p:blipFill>
        <p:spPr>
          <a:xfrm>
            <a:off x="380880" y="3733920"/>
            <a:ext cx="1890720" cy="2743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7" name="Picture 9" descr="Athena_Greek_Goddess"/>
          <p:cNvPicPr/>
          <p:nvPr/>
        </p:nvPicPr>
        <p:blipFill>
          <a:blip r:embed="rId3"/>
          <a:srcRect l="8003" t="4044" r="6671" b="5054"/>
          <a:stretch/>
        </p:blipFill>
        <p:spPr>
          <a:xfrm>
            <a:off x="2514600" y="2705040"/>
            <a:ext cx="2438280" cy="342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8" name="Text Box 10"/>
          <p:cNvSpPr/>
          <p:nvPr/>
        </p:nvSpPr>
        <p:spPr>
          <a:xfrm>
            <a:off x="4692240" y="304920"/>
            <a:ext cx="431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THENA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Minerva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4876920" y="12952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Battle Maiden and Goddess of Wisdom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876920" y="32767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otector of the City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876920" y="27432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Invented the Horse Bridl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4952880" y="386064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While Adopted by Hera,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he is the Daughter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f Zeus Only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(Sprang from his Head)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4952880" y="553716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er City is Athen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4952880" y="60706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er Bird is the Owl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4775040" y="2184480"/>
            <a:ext cx="410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Leader of the Virgin Goddesse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8" descr=""/>
          <p:cNvPicPr/>
          <p:nvPr/>
        </p:nvPicPr>
        <p:blipFill>
          <a:blip r:embed="rId1"/>
          <a:srcRect l="3083" t="1450" r="4491" b="2900"/>
          <a:stretch/>
        </p:blipFill>
        <p:spPr>
          <a:xfrm>
            <a:off x="228600" y="228600"/>
            <a:ext cx="4572000" cy="5029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Hephaestus_p120"/>
          <p:cNvPicPr/>
          <p:nvPr/>
        </p:nvPicPr>
        <p:blipFill>
          <a:blip r:embed="rId2"/>
          <a:stretch/>
        </p:blipFill>
        <p:spPr>
          <a:xfrm>
            <a:off x="3124080" y="4038480"/>
            <a:ext cx="1930680" cy="259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3" descr="hephaestus"/>
          <p:cNvPicPr/>
          <p:nvPr/>
        </p:nvPicPr>
        <p:blipFill>
          <a:blip r:embed="rId3"/>
          <a:stretch/>
        </p:blipFill>
        <p:spPr>
          <a:xfrm>
            <a:off x="228600" y="3505320"/>
            <a:ext cx="2085840" cy="31287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4816080" y="304920"/>
            <a:ext cx="406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HEPHAESTUS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Vulcan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4876920" y="1295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od of Fire and the Forg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4863960" y="185256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e is the Only Ugly Go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4876920" y="24084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usband of Aphrodit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940280" y="29671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e was Lam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4965840" y="3564000"/>
            <a:ext cx="396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s a Newborn, He was Cast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ut of Olympus, But Returne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5029200" y="49039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e has a Forge Under the Mountain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029200" y="58784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eace-Loving Go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virgem"/>
          <p:cNvPicPr/>
          <p:nvPr/>
        </p:nvPicPr>
        <p:blipFill>
          <a:blip r:embed="rId1"/>
          <a:stretch/>
        </p:blipFill>
        <p:spPr>
          <a:xfrm>
            <a:off x="228600" y="228600"/>
            <a:ext cx="3081240" cy="4648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217a-hebe"/>
          <p:cNvPicPr/>
          <p:nvPr/>
        </p:nvPicPr>
        <p:blipFill>
          <a:blip r:embed="rId2"/>
          <a:stretch/>
        </p:blipFill>
        <p:spPr>
          <a:xfrm>
            <a:off x="533520" y="3962520"/>
            <a:ext cx="2122200" cy="25905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9"/>
          <p:cNvSpPr/>
          <p:nvPr/>
        </p:nvSpPr>
        <p:spPr>
          <a:xfrm>
            <a:off x="4921200" y="304920"/>
            <a:ext cx="38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HEBE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None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4876920" y="1295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Cupbearer of the God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4863960" y="1781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oddess of Youth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876920" y="233676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Later Married Off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o Heracle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153" name="Picture 7" descr="hebe"/>
          <p:cNvPicPr/>
          <p:nvPr/>
        </p:nvPicPr>
        <p:blipFill>
          <a:blip r:embed="rId3"/>
          <a:stretch/>
        </p:blipFill>
        <p:spPr>
          <a:xfrm>
            <a:off x="2895480" y="4419720"/>
            <a:ext cx="2857680" cy="200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4" name="Picture 8" descr="http://www.entrenet.com/~groedmed/greekm/images/hebe.jpg"/>
          <p:cNvPicPr/>
          <p:nvPr/>
        </p:nvPicPr>
        <p:blipFill>
          <a:blip r:embed="rId4"/>
          <a:stretch/>
        </p:blipFill>
        <p:spPr>
          <a:xfrm>
            <a:off x="3124080" y="2286000"/>
            <a:ext cx="1482840" cy="2209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5" name="Picture 22" descr="Meg_and_Hercules_by_wolf_grrl"/>
          <p:cNvPicPr/>
          <p:nvPr/>
        </p:nvPicPr>
        <p:blipFill>
          <a:blip r:embed="rId5"/>
          <a:stretch/>
        </p:blipFill>
        <p:spPr>
          <a:xfrm>
            <a:off x="6095880" y="3581280"/>
            <a:ext cx="203220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04920" y="2438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ZEUS’ CHILDREN BY LETO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Daughter of the Titans, Coeus and Phoebe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250px-Francois_Boucher_apollo_Wallace_Collection"/>
          <p:cNvPicPr/>
          <p:nvPr/>
        </p:nvPicPr>
        <p:blipFill>
          <a:blip r:embed="rId1"/>
          <a:stretch/>
        </p:blipFill>
        <p:spPr>
          <a:xfrm>
            <a:off x="1371600" y="914400"/>
            <a:ext cx="3745080" cy="5257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Apollo_by_iizzard"/>
          <p:cNvPicPr/>
          <p:nvPr/>
        </p:nvPicPr>
        <p:blipFill>
          <a:blip r:embed="rId2"/>
          <a:srcRect l="8005" t="7104" r="6667" b="11111"/>
          <a:stretch/>
        </p:blipFill>
        <p:spPr>
          <a:xfrm>
            <a:off x="380880" y="457200"/>
            <a:ext cx="2438640" cy="1752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Apollo"/>
          <p:cNvPicPr/>
          <p:nvPr/>
        </p:nvPicPr>
        <p:blipFill>
          <a:blip r:embed="rId3"/>
          <a:stretch/>
        </p:blipFill>
        <p:spPr>
          <a:xfrm>
            <a:off x="914400" y="1981080"/>
            <a:ext cx="1619280" cy="2428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apollo"/>
          <p:cNvPicPr/>
          <p:nvPr/>
        </p:nvPicPr>
        <p:blipFill>
          <a:blip r:embed="rId4"/>
          <a:srcRect l="8733" t="7336" r="5562" b="4672"/>
          <a:stretch/>
        </p:blipFill>
        <p:spPr>
          <a:xfrm>
            <a:off x="533520" y="4114800"/>
            <a:ext cx="168264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1" name="Text Box 12"/>
          <p:cNvSpPr/>
          <p:nvPr/>
        </p:nvSpPr>
        <p:spPr>
          <a:xfrm>
            <a:off x="5099760" y="304920"/>
            <a:ext cx="401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POLLO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Apollo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5130720" y="1295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win Brother of Artemi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118120" y="17812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ost Greek of All the God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130720" y="233676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aster Musician and Poet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5194440" y="2895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od of Light and Truth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5054760" y="349236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No False Word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(Never Told a Lie)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5118120" y="4419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is Tree is the Laurel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5118120" y="49687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is Oracle at Delphi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was the Most Popular 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0" descr="http://www.astrosurf.com/lombry/Images/artemis-kr.jpg"/>
          <p:cNvPicPr/>
          <p:nvPr/>
        </p:nvPicPr>
        <p:blipFill>
          <a:blip r:embed="rId1"/>
          <a:stretch/>
        </p:blipFill>
        <p:spPr>
          <a:xfrm>
            <a:off x="584280" y="304920"/>
            <a:ext cx="3921120" cy="4952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Artemis_by_Rin_Rin_Rin"/>
          <p:cNvPicPr/>
          <p:nvPr/>
        </p:nvPicPr>
        <p:blipFill>
          <a:blip r:embed="rId2"/>
          <a:stretch/>
        </p:blipFill>
        <p:spPr>
          <a:xfrm>
            <a:off x="2565360" y="35053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artemis"/>
          <p:cNvPicPr/>
          <p:nvPr/>
        </p:nvPicPr>
        <p:blipFill>
          <a:blip r:embed="rId3"/>
          <a:stretch/>
        </p:blipFill>
        <p:spPr>
          <a:xfrm>
            <a:off x="431640" y="4038480"/>
            <a:ext cx="1731960" cy="2619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1"/>
          <p:cNvSpPr/>
          <p:nvPr/>
        </p:nvSpPr>
        <p:spPr>
          <a:xfrm>
            <a:off x="5145480" y="304920"/>
            <a:ext cx="39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RTEMIS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Diana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130720" y="1295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win Sister of Apollo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5118120" y="1781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Virgin Goddes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5130720" y="233676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oddess of the Moon 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nd the Hunt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5105520" y="32004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Lady of the Wild Thing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5168880" y="3746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otector of Maiden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5181480" y="42544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untsman-in-Chief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f Olympu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_Demeter_searching_for_Persephone"/>
          <p:cNvPicPr/>
          <p:nvPr/>
        </p:nvPicPr>
        <p:blipFill>
          <a:blip r:embed="rId1"/>
          <a:srcRect l="6160" t="4760" r="6037" b="8333"/>
          <a:stretch/>
        </p:blipFill>
        <p:spPr>
          <a:xfrm>
            <a:off x="533520" y="457200"/>
            <a:ext cx="4343400" cy="556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persephone"/>
          <p:cNvPicPr/>
          <p:nvPr/>
        </p:nvPicPr>
        <p:blipFill>
          <a:blip r:embed="rId2"/>
          <a:srcRect l="2465" t="1755" r="3895" b="1755"/>
          <a:stretch/>
        </p:blipFill>
        <p:spPr>
          <a:xfrm>
            <a:off x="3030480" y="3073320"/>
            <a:ext cx="2316240" cy="3353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1" name="Text Box 8"/>
          <p:cNvSpPr/>
          <p:nvPr/>
        </p:nvSpPr>
        <p:spPr>
          <a:xfrm>
            <a:off x="4722120" y="304920"/>
            <a:ext cx="477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PERSEPHONE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Proserpine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130720" y="12952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Daughter of Zeus by Demeter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118120" y="1781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oddess of Spring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5130720" y="233676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he was Kidnappe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by Hade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5105520" y="32004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Later Made th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Queen of the Underworl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5168880" y="408924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pends Half the Year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in Hades, Half on Earth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5181480" y="50418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Demeter is Heartbroken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When She is Away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188" name="Picture 16" descr="RPlVampHP"/>
          <p:cNvPicPr/>
          <p:nvPr/>
        </p:nvPicPr>
        <p:blipFill>
          <a:blip r:embed="rId3"/>
          <a:srcRect l="9128" t="7323" r="9128" b="15354"/>
          <a:stretch/>
        </p:blipFill>
        <p:spPr>
          <a:xfrm>
            <a:off x="304920" y="4343400"/>
            <a:ext cx="1371600" cy="2209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651120" cy="4952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ermes"/>
          <p:cNvPicPr/>
          <p:nvPr/>
        </p:nvPicPr>
        <p:blipFill>
          <a:blip r:embed="rId2"/>
          <a:srcRect l="3704" t="3123" r="7407" b="16667"/>
          <a:stretch/>
        </p:blipFill>
        <p:spPr>
          <a:xfrm>
            <a:off x="3200400" y="558720"/>
            <a:ext cx="1828800" cy="1955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1" name="Picture 3" descr="hermes_bringer_of_dreams_blk"/>
          <p:cNvPicPr/>
          <p:nvPr/>
        </p:nvPicPr>
        <p:blipFill>
          <a:blip r:embed="rId3"/>
          <a:stretch/>
        </p:blipFill>
        <p:spPr>
          <a:xfrm>
            <a:off x="533520" y="3809880"/>
            <a:ext cx="2336760" cy="28195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2"/>
          <p:cNvSpPr/>
          <p:nvPr/>
        </p:nvSpPr>
        <p:spPr>
          <a:xfrm>
            <a:off x="4839840" y="241200"/>
            <a:ext cx="434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HERMES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Mercury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5029200" y="1231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on of Zeus by Maia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016600" y="171756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essenger of the God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5029200" y="227340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as Wings on Sandal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nd Cap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196" name="Picture 20" descr="Image:Mercurybyhendrickgoltzius.jpeg">
            <a:hlinkClick r:id="rId4"/>
          </p:cNvPr>
          <p:cNvPicPr/>
          <p:nvPr/>
        </p:nvPicPr>
        <p:blipFill>
          <a:blip r:embed="rId5"/>
          <a:srcRect l="0" t="0" r="2046" b="22224"/>
          <a:stretch/>
        </p:blipFill>
        <p:spPr>
          <a:xfrm>
            <a:off x="3048120" y="2209680"/>
            <a:ext cx="220968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7" name="Text Box 16"/>
          <p:cNvSpPr/>
          <p:nvPr/>
        </p:nvSpPr>
        <p:spPr>
          <a:xfrm>
            <a:off x="5054760" y="316224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he Master Thief:  He 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tole Apollo’s Cattl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n the First Day of his Lif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5067360" y="44197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ppears the Most Often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f All the God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5079960" y="52959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lso Leads Souls Down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into the Underworl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200" name="Picture 9" descr="Hermes"/>
          <p:cNvPicPr/>
          <p:nvPr/>
        </p:nvPicPr>
        <p:blipFill>
          <a:blip r:embed="rId6"/>
          <a:srcRect l="11429" t="24686" r="27141" b="0"/>
          <a:stretch/>
        </p:blipFill>
        <p:spPr>
          <a:xfrm>
            <a:off x="2590920" y="4114800"/>
            <a:ext cx="16383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olympiansOV"/>
          <p:cNvPicPr/>
          <p:nvPr/>
        </p:nvPicPr>
        <p:blipFill>
          <a:blip r:embed="rId1"/>
          <a:srcRect l="0" t="0" r="0" b="2446"/>
          <a:stretch/>
        </p:blipFill>
        <p:spPr>
          <a:xfrm>
            <a:off x="533520" y="304920"/>
            <a:ext cx="4114800" cy="6172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thanasis.com/olymp03.jpg"/>
          <p:cNvPicPr/>
          <p:nvPr/>
        </p:nvPicPr>
        <p:blipFill>
          <a:blip r:embed="rId2"/>
          <a:stretch/>
        </p:blipFill>
        <p:spPr>
          <a:xfrm>
            <a:off x="152280" y="4267080"/>
            <a:ext cx="2109960" cy="2438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Skolio_by_BlackCarrionRose"/>
          <p:cNvPicPr/>
          <p:nvPr/>
        </p:nvPicPr>
        <p:blipFill>
          <a:blip r:embed="rId3"/>
          <a:stretch/>
        </p:blipFill>
        <p:spPr>
          <a:xfrm>
            <a:off x="3809880" y="3733920"/>
            <a:ext cx="1816200" cy="2361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327640" y="304920"/>
            <a:ext cx="325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MOUNT OLYMPUS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Home of the Gods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or most of them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965840" y="17812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riginally Thought to be a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Real Mountain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978440" y="27748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Finally Came to be Thought of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s a Floating Mountain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in the Sky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016600" y="40543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alace of Zeu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003640" y="47563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here are 12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lympian God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franciscogoya-Saturn-Eating-Cronus"/>
          <p:cNvPicPr/>
          <p:nvPr/>
        </p:nvPicPr>
        <p:blipFill>
          <a:blip r:embed="rId1"/>
          <a:stretch/>
        </p:blipFill>
        <p:spPr>
          <a:xfrm>
            <a:off x="2971800" y="609480"/>
            <a:ext cx="3378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85480" y="457200"/>
            <a:ext cx="50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ZEUS (Roman Name:  Jupiter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53" name="Picture 9" descr="_ZEUS_by_el_grimlock"/>
          <p:cNvPicPr/>
          <p:nvPr/>
        </p:nvPicPr>
        <p:blipFill>
          <a:blip r:embed="rId1"/>
          <a:stretch/>
        </p:blipFill>
        <p:spPr>
          <a:xfrm>
            <a:off x="609480" y="1066680"/>
            <a:ext cx="3810240" cy="30448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4438080" y="103968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Lord of the Skies, Rain-Gatherer,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nd Cloud-Gatherer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454280" y="190512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upreme Ruler of the God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76600" y="2438280"/>
            <a:ext cx="41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is weapon was the mighty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HUNDERBOLT© 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578480" y="332892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e is NOT omniscient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58" name="Picture 14" descr="http://grenier2clio.free.fr/grec/image/thetis-zeus.jpg"/>
          <p:cNvPicPr/>
          <p:nvPr/>
        </p:nvPicPr>
        <p:blipFill>
          <a:blip r:embed="rId2"/>
          <a:stretch/>
        </p:blipFill>
        <p:spPr>
          <a:xfrm>
            <a:off x="457200" y="3505320"/>
            <a:ext cx="2502000" cy="2971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2913480" y="4343400"/>
            <a:ext cx="59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e falls in love frequently and often act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n it (even though he is married)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4623480" y="388620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is bird is the EAGL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61" name="Picture 18" descr="greek_figures_500px"/>
          <p:cNvPicPr/>
          <p:nvPr/>
        </p:nvPicPr>
        <p:blipFill>
          <a:blip r:embed="rId3"/>
          <a:srcRect l="0" t="0" r="0" b="73580"/>
          <a:stretch/>
        </p:blipFill>
        <p:spPr>
          <a:xfrm>
            <a:off x="3657600" y="5257800"/>
            <a:ext cx="47624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3" descr="Hera_by_redheaded_step_child"/>
          <p:cNvPicPr/>
          <p:nvPr/>
        </p:nvPicPr>
        <p:blipFill>
          <a:blip r:embed="rId1"/>
          <a:stretch/>
        </p:blipFill>
        <p:spPr>
          <a:xfrm>
            <a:off x="228600" y="228600"/>
            <a:ext cx="4640400" cy="640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hera"/>
          <p:cNvPicPr/>
          <p:nvPr/>
        </p:nvPicPr>
        <p:blipFill>
          <a:blip r:embed="rId2"/>
          <a:stretch/>
        </p:blipFill>
        <p:spPr>
          <a:xfrm>
            <a:off x="152280" y="419112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hera"/>
          <p:cNvPicPr/>
          <p:nvPr/>
        </p:nvPicPr>
        <p:blipFill>
          <a:blip r:embed="rId3"/>
          <a:srcRect l="0" t="0" r="0" b="2672"/>
          <a:stretch/>
        </p:blipFill>
        <p:spPr>
          <a:xfrm>
            <a:off x="3352680" y="152280"/>
            <a:ext cx="1646280" cy="264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4"/>
          <p:cNvSpPr/>
          <p:nvPr/>
        </p:nvSpPr>
        <p:spPr>
          <a:xfrm>
            <a:off x="5142600" y="228600"/>
            <a:ext cx="37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HERA 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Juno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232240" y="127008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Zeus’ Wife and Sister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5181480" y="1828800"/>
            <a:ext cx="36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otector of Marriage an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arried Women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5270400" y="2743200"/>
            <a:ext cx="36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Very Jealous of 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Zeus’ Numerous Lover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5219640" y="3749760"/>
            <a:ext cx="36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o Hera the Cow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nd Peacock are Sacre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5156280" y="4800600"/>
            <a:ext cx="36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he is the Stereotyp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f Jealous Greek Wive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Hades"/>
          <p:cNvPicPr/>
          <p:nvPr/>
        </p:nvPicPr>
        <p:blipFill>
          <a:blip r:embed="rId1"/>
          <a:stretch/>
        </p:blipFill>
        <p:spPr>
          <a:xfrm>
            <a:off x="304920" y="304920"/>
            <a:ext cx="3805200" cy="5133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4933080" y="304920"/>
            <a:ext cx="382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HADES 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Pluto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105520" y="129528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Lord of the Underworl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105520" y="182880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Ruler of the Dea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5070600" y="2374920"/>
            <a:ext cx="36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NOT Evil,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But should be Feare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045040" y="331488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NOT Death Himself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5083200" y="3936960"/>
            <a:ext cx="36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usband of Persephon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78" name="Picture 16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2857680" cy="363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4" descr="poseidon6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4876920" y="4572000"/>
            <a:ext cx="3352680" cy="2092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Poseidon_Final_by_ChristmasSocks"/>
          <p:cNvPicPr/>
          <p:nvPr/>
        </p:nvPicPr>
        <p:blipFill>
          <a:blip r:embed="rId2"/>
          <a:stretch/>
        </p:blipFill>
        <p:spPr>
          <a:xfrm>
            <a:off x="228600" y="228600"/>
            <a:ext cx="3905280" cy="6248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picture$37"/>
          <p:cNvPicPr/>
          <p:nvPr/>
        </p:nvPicPr>
        <p:blipFill>
          <a:blip r:embed="rId3"/>
          <a:stretch/>
        </p:blipFill>
        <p:spPr>
          <a:xfrm>
            <a:off x="3124080" y="3657600"/>
            <a:ext cx="1905120" cy="3057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2" name="Picture 7" descr="Poseidon~TL49~TitansOlyp~r50s3~dinked"/>
          <p:cNvPicPr/>
          <p:nvPr/>
        </p:nvPicPr>
        <p:blipFill>
          <a:blip r:embed="rId4"/>
          <a:srcRect l="1351" t="0" r="0" b="2390"/>
          <a:stretch/>
        </p:blipFill>
        <p:spPr>
          <a:xfrm>
            <a:off x="457200" y="4724280"/>
            <a:ext cx="2438280" cy="1971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3" name="Text Box 8"/>
          <p:cNvSpPr/>
          <p:nvPr/>
        </p:nvSpPr>
        <p:spPr>
          <a:xfrm>
            <a:off x="4641120" y="304920"/>
            <a:ext cx="441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POSEIDON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Neptune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876920" y="12952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Ruler of the Seas and Ocean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4876920" y="190512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arried to the Daughter of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cean, the Titan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8769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ave the Horse to Man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4952880" y="33526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Carries a Trident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(a three-pronged spear)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demeter"/>
          <p:cNvPicPr/>
          <p:nvPr/>
        </p:nvPicPr>
        <p:blipFill>
          <a:blip r:embed="rId1"/>
          <a:stretch/>
        </p:blipFill>
        <p:spPr>
          <a:xfrm>
            <a:off x="228600" y="228600"/>
            <a:ext cx="3886200" cy="5715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blank"/>
          <p:cNvPicPr/>
          <p:nvPr/>
        </p:nvPicPr>
        <p:blipFill>
          <a:blip r:embed="rId2"/>
          <a:stretch/>
        </p:blipFill>
        <p:spPr>
          <a:xfrm>
            <a:off x="762120" y="571680"/>
            <a:ext cx="5562360" cy="4171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Demeter_by_redheaded_step_child"/>
          <p:cNvPicPr/>
          <p:nvPr/>
        </p:nvPicPr>
        <p:blipFill>
          <a:blip r:embed="rId3"/>
          <a:stretch/>
        </p:blipFill>
        <p:spPr>
          <a:xfrm>
            <a:off x="2895480" y="3581280"/>
            <a:ext cx="2421000" cy="2895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1" name="Picture 3" descr="demeter-200"/>
          <p:cNvPicPr/>
          <p:nvPr/>
        </p:nvPicPr>
        <p:blipFill>
          <a:blip r:embed="rId4"/>
          <a:stretch/>
        </p:blipFill>
        <p:spPr>
          <a:xfrm>
            <a:off x="5029200" y="4724280"/>
            <a:ext cx="1905120" cy="190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Text Box 18"/>
          <p:cNvSpPr/>
          <p:nvPr/>
        </p:nvSpPr>
        <p:spPr>
          <a:xfrm>
            <a:off x="4898880" y="304920"/>
            <a:ext cx="38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DEMETER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Ceres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4876920" y="12952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oddess of Corn and Agricultur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4889520" y="22226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other of Persephon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4876920" y="28195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er Moods Affect the Season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4952880" y="3352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Lives on Earth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venus"/>
          <p:cNvPicPr/>
          <p:nvPr/>
        </p:nvPicPr>
        <p:blipFill>
          <a:blip r:embed="rId1"/>
          <a:stretch/>
        </p:blipFill>
        <p:spPr>
          <a:xfrm>
            <a:off x="228600" y="228600"/>
            <a:ext cx="2743200" cy="490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Venus___Goddess_of_Love_by_cosmosue"/>
          <p:cNvPicPr/>
          <p:nvPr/>
        </p:nvPicPr>
        <p:blipFill>
          <a:blip r:embed="rId2"/>
          <a:stretch/>
        </p:blipFill>
        <p:spPr>
          <a:xfrm>
            <a:off x="2362320" y="99072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karen%20freedom1"/>
          <p:cNvPicPr/>
          <p:nvPr/>
        </p:nvPicPr>
        <p:blipFill>
          <a:blip r:embed="rId3"/>
          <a:stretch/>
        </p:blipFill>
        <p:spPr>
          <a:xfrm>
            <a:off x="4038480" y="3657600"/>
            <a:ext cx="2229120" cy="22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0" name="Picture 7" descr="mlw_0001_0004_0_img0203"/>
          <p:cNvPicPr/>
          <p:nvPr/>
        </p:nvPicPr>
        <p:blipFill>
          <a:blip r:embed="rId4"/>
          <a:srcRect l="1962" t="4256" r="1962" b="2905"/>
          <a:stretch/>
        </p:blipFill>
        <p:spPr>
          <a:xfrm>
            <a:off x="533520" y="4114800"/>
            <a:ext cx="3733560" cy="22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1" name="Text Box 12"/>
          <p:cNvSpPr/>
          <p:nvPr/>
        </p:nvSpPr>
        <p:spPr>
          <a:xfrm>
            <a:off x="5085720" y="304920"/>
            <a:ext cx="397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PHRODITE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Venus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105520" y="12952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oddess of Love and Beauty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5105520" y="19051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Was not Born, Sprang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from the Sea Foam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51055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Wife of Hephaestu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5" descr="vestial_virigin_1"/>
          <p:cNvPicPr/>
          <p:nvPr/>
        </p:nvPicPr>
        <p:blipFill>
          <a:blip r:embed="rId1"/>
          <a:stretch/>
        </p:blipFill>
        <p:spPr>
          <a:xfrm>
            <a:off x="3733920" y="3657600"/>
            <a:ext cx="2325600" cy="297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hestia"/>
          <p:cNvPicPr/>
          <p:nvPr/>
        </p:nvPicPr>
        <p:blipFill>
          <a:blip r:embed="rId2"/>
          <a:srcRect l="2250" t="1386" r="5260" b="4166"/>
          <a:stretch/>
        </p:blipFill>
        <p:spPr>
          <a:xfrm>
            <a:off x="380880" y="380880"/>
            <a:ext cx="3124440" cy="5181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K13"/>
          <p:cNvPicPr/>
          <p:nvPr/>
        </p:nvPicPr>
        <p:blipFill>
          <a:blip r:embed="rId3"/>
          <a:srcRect l="0" t="0" r="0" b="6224"/>
          <a:stretch/>
        </p:blipFill>
        <p:spPr>
          <a:xfrm>
            <a:off x="1143000" y="3571920"/>
            <a:ext cx="2502000" cy="3286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Hestia"/>
          <p:cNvPicPr/>
          <p:nvPr/>
        </p:nvPicPr>
        <p:blipFill>
          <a:blip r:embed="rId4"/>
          <a:stretch/>
        </p:blipFill>
        <p:spPr>
          <a:xfrm>
            <a:off x="5791320" y="4419720"/>
            <a:ext cx="1730160" cy="2133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9" name="Picture 9" descr="vesta"/>
          <p:cNvPicPr/>
          <p:nvPr/>
        </p:nvPicPr>
        <p:blipFill>
          <a:blip r:embed="rId5"/>
          <a:srcRect l="8018" t="7897" r="7852" b="15793"/>
          <a:stretch/>
        </p:blipFill>
        <p:spPr>
          <a:xfrm>
            <a:off x="2895480" y="1523880"/>
            <a:ext cx="1600200" cy="2210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0" name="Text Box 10"/>
          <p:cNvSpPr/>
          <p:nvPr/>
        </p:nvSpPr>
        <p:spPr>
          <a:xfrm>
            <a:off x="5028480" y="380880"/>
            <a:ext cx="386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HESTIA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Vesta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991040" y="13716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oddess of the Hearth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4991040" y="19810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otector of the Hom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5003640" y="2590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ne of the Virgin Goddesse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5029200" y="31622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In Rome:  the Vestal Virgin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8:08:29Z</dcterms:created>
  <dc:creator>rclosser</dc:creator>
  <dc:description/>
  <dc:language>en-US</dc:language>
  <cp:lastModifiedBy>jordandc</cp:lastModifiedBy>
  <dcterms:modified xsi:type="dcterms:W3CDTF">2013-08-20T19:07:02Z</dcterms:modified>
  <cp:revision>23</cp:revision>
  <dc:subject/>
  <dc:title>Slide 1</dc:title>
</cp:coreProperties>
</file>